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04C-F7C2-456C-92F2-C8E5D107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491-FAAF-481E-8B5A-F26759887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E10-9E41-4B22-8C96-9D0C636C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200F-E4C9-42EC-9F46-D4C80019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51B-143B-4F01-8986-EBC2E66F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1AE-FD38-4EFC-8801-18944FE2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D9B-A230-42E7-9227-35E2A552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466-8B22-4E9A-B5BD-43B76A79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1278-D079-42DF-A947-988897E3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6FE-C257-4CC1-91EE-B6185875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3AF-56DD-49D0-943B-64824905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FC94-A1BE-472B-A995-03267B40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223-01E6-4AF3-B94F-FB5F8996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CEFB-3340-4E32-964A-F720B00F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DAAD-2569-4B04-AD4D-760CA163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234B-1666-4943-B3DD-D9509B65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CA4-52EE-4690-871E-37EB8F94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A1E0-E33C-4F76-A2FC-74440489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BB8B-7679-4022-841D-12AA3524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126-E6BD-4B8E-900B-6187BCEC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C84-4545-4073-A385-9DB53C53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B2FD-B03B-4F99-A3CA-61B427F1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F490-4580-478B-ABA8-5ADA0F18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8035-D972-43DB-A8A5-415E80F9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C9B6-A7E8-4C8F-8DAB-4B351C64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86D-C237-41B8-8653-D8B2D2F7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368D-1E55-4D9B-B46F-903EDE48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5BC-CFB1-4FC7-8D95-CA12DA2B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A42-53A8-47C9-9BF3-8B5E9EA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274-7CE4-42B4-AE47-CCD8B76D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22A-77CE-4535-83E6-4046704B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699C-8BCE-4F80-A777-34E3E25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6E5-4B73-413E-ADEC-71DBFA5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9F20-26E0-49B0-B492-4C22F31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0EB2-7F9F-4F32-B86A-BB5443A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591F-1CD2-469C-9C87-8660C36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10C6-3030-40DD-A5E9-2D7E00E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84CC-1A5F-47BB-A177-46A2F9D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C82-AB28-4551-9093-0F4AD5D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E57-A6D5-422F-8897-211C011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949C-BC2A-41B3-AAFC-66E1A0F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BA0-3F89-4E4B-829F-45C99889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64D-81CA-4EA1-A8F5-DC98C25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B7A-D1D9-419C-8FEA-F36B06CF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C74-A4E1-40F0-AB08-5E2A89F9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A360-CA30-451B-B38B-3A4FBD51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008D-0DF8-4480-AA5B-94B4187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43D8-4B89-4B9B-BABB-E9FF718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258-51D8-479F-A395-2377E154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93A2-AEEA-4B66-AF87-19EF26E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59F6-AD45-4816-81B4-8B4772E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232A-36D2-4299-951B-D0C2295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70B9-E802-430C-BC45-C095919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07EE-3EAE-4E74-891A-5525CAC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7F38-8E18-407D-BBF2-42E085E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7D73-95C0-42CB-8E65-15CD9161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DF4B-FD15-40C9-9BA2-18F51EF3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BE35-527D-41F2-BBF8-89ECF430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648-7533-495C-92A7-8673FA6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753-4F84-4EA0-9FDD-0BE398E2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45E-E2A9-434A-A177-CE1C088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34D-4F7B-4A54-8996-4F23A98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E38-23D7-4FE1-AAAC-75E2D73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AWV00007"/>
          <p:cNvPicPr/>
          <p:nvPr/>
        </p:nvPicPr>
        <p:blipFill>
          <a:blip r:embed="rId2"/>
          <a:stretch/>
        </p:blipFill>
        <p:spPr>
          <a:xfrm>
            <a:off x="5549760" y="5715000"/>
            <a:ext cx="359424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CA8B-E43E-468B-80D9-5AEE08AD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C8C-6BE7-4709-A52C-A7287E8C2EA6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AWV00007"/>
          <p:cNvPicPr/>
          <p:nvPr/>
        </p:nvPicPr>
        <p:blipFill>
          <a:blip r:embed="rId2"/>
          <a:stretch/>
        </p:blipFill>
        <p:spPr>
          <a:xfrm>
            <a:off x="228600" y="3795840"/>
            <a:ext cx="8915400" cy="283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889-EE2C-41A4-94FF-5DF411FDE3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8000" y="1735200"/>
            <a:ext cx="734040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Cell Structures, Functions and Transport</a:t>
            </a:r>
            <a:endParaRPr b="1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Golgi Complex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e shipper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packages, modifies, and transports materials to different location inside/outside of the c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stack of pancak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Lysosomes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: circular, but bigger than ribosomes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Clean-up Crews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o break down food into particles the rest of the cell can use and to destroy old cell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The Powerhouse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Energy form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eaks down food to make ATP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52480" indent="-380880">
              <a:spcBef>
                <a:spcPts val="550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Palatino Linotype"/>
              </a:rPr>
              <a:t>ATP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:  is the major fuel for all cell activities that require energy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Mitochondria Inner Structure"/>
          <p:cNvPicPr/>
          <p:nvPr/>
        </p:nvPicPr>
        <p:blipFill>
          <a:blip r:embed="rId1"/>
          <a:stretch/>
        </p:blipFill>
        <p:spPr>
          <a:xfrm>
            <a:off x="2567160" y="1244520"/>
            <a:ext cx="444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2133720" y="3049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w let’s talk about structures only found in PLANT Cells!!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8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25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26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27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28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30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2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33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4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5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36"/>
          <p:cNvSpPr/>
          <p:nvPr/>
        </p:nvSpPr>
        <p:spPr>
          <a:xfrm>
            <a:off x="1905120" y="2133720"/>
            <a:ext cx="129528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Vacuol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stores wa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is what makes lettuce crisp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en there is no water, the plant wil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30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31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33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35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37"/>
          <p:cNvSpPr/>
          <p:nvPr/>
        </p:nvSpPr>
        <p:spPr>
          <a:xfrm flipV="1">
            <a:off x="5105520" y="2209680"/>
            <a:ext cx="13716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0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2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3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5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6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raps energy from the sun to produce food for the plant c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Green in color because of chlorophyll, which is a green pigmen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hloroplast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64" name="Picture 4" descr="chloropl"/>
          <p:cNvPicPr/>
          <p:nvPr/>
        </p:nvPicPr>
        <p:blipFill>
          <a:blip r:embed="rId1"/>
          <a:stretch/>
        </p:blipFill>
        <p:spPr>
          <a:xfrm>
            <a:off x="2819520" y="220500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990720" y="32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V="1">
            <a:off x="5486400" y="2743200"/>
            <a:ext cx="137160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4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5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16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9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Cell Wal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provides support and protection to the cell membran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nd outside the cell membrane in plant cell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bio_ch7_4819"/>
          <p:cNvPicPr/>
          <p:nvPr/>
        </p:nvPicPr>
        <p:blipFill>
          <a:blip r:embed="rId1"/>
          <a:stretch/>
        </p:blipFill>
        <p:spPr>
          <a:xfrm>
            <a:off x="2209680" y="1676520"/>
            <a:ext cx="4686480" cy="34671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6"/>
          <p:cNvSpPr/>
          <p:nvPr/>
        </p:nvSpPr>
        <p:spPr>
          <a:xfrm>
            <a:off x="1219320" y="3049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9907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656400" y="3886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6438960" y="441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5542200" y="50292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926600" y="13716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1242000" y="41148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1832760" y="48769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6294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20"/>
          <p:cNvSpPr/>
          <p:nvPr/>
        </p:nvSpPr>
        <p:spPr>
          <a:xfrm flipH="1">
            <a:off x="5410080" y="34290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5486400" y="2666880"/>
            <a:ext cx="137160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23"/>
          <p:cNvSpPr/>
          <p:nvPr/>
        </p:nvSpPr>
        <p:spPr>
          <a:xfrm flipH="1" flipV="1">
            <a:off x="2133360" y="1523520"/>
            <a:ext cx="14475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129528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4"/>
          <p:cNvSpPr/>
          <p:nvPr/>
        </p:nvSpPr>
        <p:spPr>
          <a:xfrm>
            <a:off x="990720" y="1447920"/>
            <a:ext cx="4800600" cy="495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3352680" y="1447920"/>
            <a:ext cx="5029200" cy="487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447920" y="304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Plant and Animal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9810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6483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7720" y="18288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The Control Center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holds the DNA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Part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Nucleolu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:  dark spot in the middle of the nucleus that helps make ribosom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9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3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32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34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36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37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38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39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 makes prot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nd in all cells, prokaryotic and eukaryotic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4040" y="175248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Endoplasmic Reticulum (ER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“Roads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e internal delivery system of the cell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04920" y="35053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62940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5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7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2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ndoplasmic Reticulum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ugh ER: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ough appearance because it has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helps make proteins, that’s why it has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mooth ER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O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makes fats or lipid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7913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0666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olgi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0:05:12Z</dcterms:created>
  <dc:creator>Courtney</dc:creator>
  <dc:description/>
  <dc:language>en-US</dc:language>
  <cp:lastModifiedBy>Lyn Clarkson</cp:lastModifiedBy>
  <dcterms:modified xsi:type="dcterms:W3CDTF">2008-10-23T03:18:54Z</dcterms:modified>
  <cp:revision>44</cp:revision>
  <dc:subject/>
  <dc:title>Chapters 4 and 5  Cell Structures, Functions and Transport</dc:title>
</cp:coreProperties>
</file>